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ED3-9390-4DE7-AA4D-A7F9455E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381-35BD-4723-BF5A-6A25A78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D63-6226-4D67-8B88-AA93702F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DF0-37DC-4A59-8818-B46E030B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618-D322-435A-B895-685548E2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D2EA-46A0-4FC0-8C89-A5C8CEAE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4FE4-CDDC-4EBF-9728-413492B3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FDA-E029-42CA-89BD-540F6092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FDE4-04D2-422F-A39A-B8EE2CC4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EAD-C4F0-4DAE-9C8A-83B5C5B7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03A9-F7C4-4C52-BB4C-61CA232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FC0-2ABA-4D65-8B6B-B4292EF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2498-BD39-447F-9E1A-A07AA65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C33D-26DE-4669-BA4D-A5E2E79B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234-7EA1-4C80-B08D-6DCD02A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F77-4E8C-4C7E-A48B-3A77E0AE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74A1-D5FE-40C5-8830-E1A4928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AE0-AF75-4415-83A0-0F656427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D3E-9284-4B86-9851-E31C6BE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508-5059-4611-BCD2-367185C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3DF-003D-4EFD-9A0C-9FFD83F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090-7B6A-4BFB-882A-19407A93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E12-BF99-407A-B0C5-292EAB2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4E5-2BEC-46F9-BCED-23DBF86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35F5-2A12-4CCF-B242-47E236E7CB3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EFB-E29C-429C-A316-A4194898AE54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gimnazjum" TargetMode="External"/><Relationship Id="rId2" Type="http://schemas.openxmlformats.org/officeDocument/2006/relationships/hyperlink" Target="http://matematyka.opracowania.pl/gimnazjum" TargetMode="External"/><Relationship Id="rId3" Type="http://schemas.openxmlformats.org/officeDocument/2006/relationships/hyperlink" Target="http://matematyka.opracowania.pl/gimnazjum" TargetMode="External"/><Relationship Id="rId4" Type="http://schemas.openxmlformats.org/officeDocument/2006/relationships/hyperlink" Target="http://www.bazywiedzy.com/" TargetMode="External"/><Relationship Id="rId5" Type="http://schemas.openxmlformats.org/officeDocument/2006/relationships/hyperlink" Target="http://www.math.edu.pl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753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ziałania na ułamkach 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zwykłych.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https://encrypted-tbn2.google.com/images?q=tbn:ANd9GcTuJznYrdSIQvgCyBgJ8_kDlQDHh7PXBlEQqajPm_FwQibDsiG1"/>
          <p:cNvPicPr/>
          <p:nvPr/>
        </p:nvPicPr>
        <p:blipFill>
          <a:blip r:embed="rId1"/>
          <a:stretch/>
        </p:blipFill>
        <p:spPr>
          <a:xfrm>
            <a:off x="1258920" y="3645000"/>
            <a:ext cx="167652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s://encrypted-tbn0.google.com/images?q=tbn:ANd9GcSnO5gGpeO6pq_FwPES-Gk1vxmJtdip9CFBq1FYFS-ofchE9wSr"/>
          <p:cNvPicPr/>
          <p:nvPr/>
        </p:nvPicPr>
        <p:blipFill>
          <a:blip r:embed="rId2"/>
          <a:stretch/>
        </p:blipFill>
        <p:spPr>
          <a:xfrm>
            <a:off x="7451640" y="4346640"/>
            <a:ext cx="141444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śli dwa ułamki, które chcemy  odjąć mają różne mianowniki to należy najpierw sprowadzić je do wspólnego mianownika, następnie odjąć licznik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Odejmowanie ułamków zwykłych ze sprowadzaniem do wspólnego mianownika - przykład"/>
          <p:cNvPicPr/>
          <p:nvPr/>
        </p:nvPicPr>
        <p:blipFill>
          <a:blip r:embed="rId1"/>
          <a:stretch/>
        </p:blipFill>
        <p:spPr>
          <a:xfrm>
            <a:off x="4284720" y="4437000"/>
            <a:ext cx="468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po sprowadzeniu ułamków do wspólnego mianownika część ułamkowa pierwszego z ułamków jest mniejsza od drugiego, należy zmniejszyć całości o j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257800" cy="258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oż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dwa ułamki zwykłe należy wymnożyć ze sobą liczn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ianowni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Mnożenie ułamków zwykłych - przykład"/>
          <p:cNvPicPr/>
          <p:nvPr/>
        </p:nvPicPr>
        <p:blipFill>
          <a:blip r:embed="rId1"/>
          <a:stretch/>
        </p:blipFill>
        <p:spPr>
          <a:xfrm>
            <a:off x="4140360" y="3716280"/>
            <a:ext cx="4103640" cy="169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3024360" cy="104940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liczbę naturalną przez ułamek (lub odwrotnie), mnożymy licznik ułamka przez tę liczbę,                    a mianownik zostawiamy bez zmi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241440" cy="11401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chcemy pomnożyć przez siebie  dwie liczby mieszane, to obie zamieniamy na ułamki niewłaściwe                                    i mnożymy licznik przez licznik,                a mianownik przez mianown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7128000" cy="12178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Przed wykonaniem mnożenia skracamy ułamki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6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419640" y="234936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2852640"/>
            <a:ext cx="216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3277080" y="2275560"/>
            <a:ext cx="14256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3996360" y="2923200"/>
            <a:ext cx="14292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349360"/>
            <a:ext cx="142920" cy="287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852640"/>
            <a:ext cx="144360" cy="21600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ziel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zielenie ułamków zwykłych jest równoznaczne z wymnożeniem pierwszego ułamka przez odwrotność drugie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zielenie ułamków zwykłych - przykład"/>
          <p:cNvPicPr/>
          <p:nvPr/>
        </p:nvPicPr>
        <p:blipFill>
          <a:blip r:embed="rId1"/>
          <a:stretch/>
        </p:blipFill>
        <p:spPr>
          <a:xfrm>
            <a:off x="3924360" y="3645000"/>
            <a:ext cx="3889440" cy="13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918240" cy="11350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721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473800" cy="363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tematyka.opracowania.pl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gimnazju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bazywiedzy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math.edu.pl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5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dawa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dodać należy dodać liczniki tych ułamków                                 a mianownik pozostawić bez zmi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808000" cy="13129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908000" y="3068640"/>
                <a:ext cx="36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Group 36"/>
          <p:cNvGrpSpPr/>
          <p:nvPr/>
        </p:nvGrpSpPr>
        <p:grpSpPr>
          <a:xfrm>
            <a:off x="1042920" y="2060640"/>
            <a:ext cx="7467840" cy="838080"/>
            <a:chOff x="1042920" y="2060640"/>
            <a:chExt cx="7467840" cy="838080"/>
          </a:xfrm>
        </p:grpSpPr>
        <p:sp>
          <p:nvSpPr>
            <p:cNvPr id="123" name="Rectangle 21"/>
            <p:cNvSpPr/>
            <p:nvPr/>
          </p:nvSpPr>
          <p:spPr>
            <a:xfrm>
              <a:off x="6448320" y="2060640"/>
              <a:ext cx="206244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250440" y="2220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5939640" y="2250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042920" y="2060640"/>
              <a:ext cx="2062440" cy="838080"/>
              <a:chOff x="1042920" y="2060640"/>
              <a:chExt cx="2062440" cy="838080"/>
            </a:xfrm>
          </p:grpSpPr>
          <p:grpSp>
            <p:nvGrpSpPr>
              <p:cNvPr id="127" name="Group 5"/>
              <p:cNvGrpSpPr/>
              <p:nvPr/>
            </p:nvGrpSpPr>
            <p:grpSpPr>
              <a:xfrm>
                <a:off x="1042920" y="2060640"/>
                <a:ext cx="2062440" cy="838080"/>
                <a:chOff x="1042920" y="2060640"/>
                <a:chExt cx="2062440" cy="83808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0429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7"/>
                <p:cNvSpPr/>
                <p:nvPr/>
              </p:nvSpPr>
              <p:spPr>
                <a:xfrm>
                  <a:off x="10429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8"/>
              <p:cNvSpPr/>
              <p:nvPr/>
            </p:nvSpPr>
            <p:spPr>
              <a:xfrm>
                <a:off x="1042920" y="2060640"/>
                <a:ext cx="1351080" cy="41904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168264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23940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1042920" y="2479680"/>
                <a:ext cx="63972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3674520" y="2060640"/>
              <a:ext cx="2062440" cy="838080"/>
              <a:chOff x="3674520" y="2060640"/>
              <a:chExt cx="2062440" cy="838080"/>
            </a:xfrm>
          </p:grpSpPr>
          <p:grpSp>
            <p:nvGrpSpPr>
              <p:cNvPr id="135" name="Group 14"/>
              <p:cNvGrpSpPr/>
              <p:nvPr/>
            </p:nvGrpSpPr>
            <p:grpSpPr>
              <a:xfrm>
                <a:off x="3674520" y="2060640"/>
                <a:ext cx="2062440" cy="838080"/>
                <a:chOff x="3674520" y="2060640"/>
                <a:chExt cx="2062440" cy="838080"/>
              </a:xfrm>
            </p:grpSpPr>
            <p:sp>
              <p:nvSpPr>
                <p:cNvPr id="136" name="Rectangle 15"/>
                <p:cNvSpPr/>
                <p:nvPr/>
              </p:nvSpPr>
              <p:spPr>
                <a:xfrm>
                  <a:off x="36745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36745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31"/>
              <p:cNvSpPr/>
              <p:nvPr/>
            </p:nvSpPr>
            <p:spPr>
              <a:xfrm>
                <a:off x="4314600" y="2479680"/>
                <a:ext cx="142200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502596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7"/>
              <p:cNvSpPr/>
              <p:nvPr/>
            </p:nvSpPr>
            <p:spPr>
              <a:xfrm>
                <a:off x="43146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Rectangle 33"/>
            <p:cNvSpPr/>
            <p:nvPr/>
          </p:nvSpPr>
          <p:spPr>
            <a:xfrm>
              <a:off x="6448320" y="2060640"/>
              <a:ext cx="2062440" cy="41904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448320" y="2479680"/>
              <a:ext cx="20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779976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448320" y="2479680"/>
              <a:ext cx="1351080" cy="4186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708840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72"/>
          <p:cNvGrpSpPr/>
          <p:nvPr/>
        </p:nvGrpSpPr>
        <p:grpSpPr>
          <a:xfrm>
            <a:off x="1692360" y="4076640"/>
            <a:ext cx="5615640" cy="1657080"/>
            <a:chOff x="1692360" y="4076640"/>
            <a:chExt cx="5615640" cy="1657080"/>
          </a:xfrm>
        </p:grpSpPr>
        <p:grpSp>
          <p:nvGrpSpPr>
            <p:cNvPr id="147" name="Group 52"/>
            <p:cNvGrpSpPr/>
            <p:nvPr/>
          </p:nvGrpSpPr>
          <p:grpSpPr>
            <a:xfrm>
              <a:off x="1692360" y="4724280"/>
              <a:ext cx="5615640" cy="432360"/>
              <a:chOff x="1692360" y="4724280"/>
              <a:chExt cx="5615640" cy="432360"/>
            </a:xfrm>
          </p:grpSpPr>
          <p:sp>
            <p:nvSpPr>
              <p:cNvPr id="148" name="Line 44"/>
              <p:cNvSpPr/>
              <p:nvPr/>
            </p:nvSpPr>
            <p:spPr>
              <a:xfrm>
                <a:off x="1692360" y="4940280"/>
                <a:ext cx="56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0995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25063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29131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33202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37270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41338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Text Box 51"/>
            <p:cNvSpPr/>
            <p:nvPr/>
          </p:nvSpPr>
          <p:spPr>
            <a:xfrm>
              <a:off x="1950840" y="5073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1030"/>
                <p:cNvSpPr txBox="1"/>
                <p:nvPr/>
              </p:nvSpPr>
              <p:spPr>
                <a:xfrm>
                  <a:off x="2831400" y="5156640"/>
                  <a:ext cx="250560" cy="57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Text Box 56"/>
            <p:cNvSpPr/>
            <p:nvPr/>
          </p:nvSpPr>
          <p:spPr>
            <a:xfrm>
              <a:off x="3971880" y="50731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rc 57"/>
            <p:cNvSpPr/>
            <p:nvPr/>
          </p:nvSpPr>
          <p:spPr>
            <a:xfrm>
              <a:off x="2913840" y="4653720"/>
              <a:ext cx="1216440" cy="790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61"/>
            <p:cNvGrpSpPr/>
            <p:nvPr/>
          </p:nvGrpSpPr>
          <p:grpSpPr>
            <a:xfrm>
              <a:off x="3089160" y="4076640"/>
              <a:ext cx="552240" cy="576720"/>
              <a:chOff x="3089160" y="4076640"/>
              <a:chExt cx="552240" cy="576720"/>
            </a:xfrm>
          </p:grpSpPr>
          <p:sp>
            <p:nvSpPr>
              <p:cNvPr id="160" name="Text Box 58"/>
              <p:cNvSpPr/>
              <p:nvPr/>
            </p:nvSpPr>
            <p:spPr>
              <a:xfrm>
                <a:off x="3089160" y="4134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031"/>
                  <p:cNvSpPr txBox="1"/>
                  <p:nvPr/>
                </p:nvSpPr>
                <p:spPr>
                  <a:xfrm>
                    <a:off x="3409200" y="4076640"/>
                    <a:ext cx="232200" cy="57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62" name="Object 1025"/>
              <p:cNvSpPr txBox="1"/>
              <p:nvPr/>
            </p:nvSpPr>
            <p:spPr>
              <a:xfrm>
                <a:off x="4500720" y="3213000"/>
                <a:ext cx="350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7236000" y="3141720"/>
                <a:ext cx="309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70"/>
          <p:cNvGrpSpPr/>
          <p:nvPr/>
        </p:nvGrpSpPr>
        <p:grpSpPr>
          <a:xfrm>
            <a:off x="5148360" y="5300640"/>
            <a:ext cx="2633040" cy="779040"/>
            <a:chOff x="5148360" y="5300640"/>
            <a:chExt cx="2633040" cy="779040"/>
          </a:xfrm>
        </p:grpSpPr>
        <p:grpSp>
          <p:nvGrpSpPr>
            <p:cNvPr id="165" name="Group 62"/>
            <p:cNvGrpSpPr/>
            <p:nvPr/>
          </p:nvGrpSpPr>
          <p:grpSpPr>
            <a:xfrm>
              <a:off x="5506920" y="5300640"/>
              <a:ext cx="632160" cy="778680"/>
              <a:chOff x="5506920" y="5300640"/>
              <a:chExt cx="632160" cy="778680"/>
            </a:xfrm>
          </p:grpSpPr>
          <p:sp>
            <p:nvSpPr>
              <p:cNvPr id="166" name="Text Box 63"/>
              <p:cNvSpPr/>
              <p:nvPr/>
            </p:nvSpPr>
            <p:spPr>
              <a:xfrm>
                <a:off x="5506920" y="5461200"/>
                <a:ext cx="35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7" name="Object 1029"/>
                  <p:cNvSpPr txBox="1"/>
                  <p:nvPr/>
                </p:nvSpPr>
                <p:spPr>
                  <a:xfrm>
                    <a:off x="5856840" y="5300640"/>
                    <a:ext cx="282240" cy="77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8" name="Object 1027"/>
                <p:cNvSpPr txBox="1"/>
                <p:nvPr/>
              </p:nvSpPr>
              <p:spPr>
                <a:xfrm>
                  <a:off x="5148360" y="5300640"/>
                  <a:ext cx="30492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66"/>
            <p:cNvSpPr/>
            <p:nvPr/>
          </p:nvSpPr>
          <p:spPr>
            <a:xfrm>
              <a:off x="6151680" y="5496840"/>
              <a:ext cx="39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028"/>
                <p:cNvSpPr txBox="1"/>
                <p:nvPr/>
              </p:nvSpPr>
              <p:spPr>
                <a:xfrm>
                  <a:off x="6664320" y="5300640"/>
                  <a:ext cx="28188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68"/>
            <p:cNvSpPr/>
            <p:nvPr/>
          </p:nvSpPr>
          <p:spPr>
            <a:xfrm>
              <a:off x="6955200" y="5496840"/>
              <a:ext cx="401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69"/>
            <p:cNvSpPr/>
            <p:nvPr/>
          </p:nvSpPr>
          <p:spPr>
            <a:xfrm>
              <a:off x="7372080" y="5406480"/>
              <a:ext cx="409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2975040" cy="10447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116000" y="1916280"/>
            <a:ext cx="691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dodać liczby mieszane, dodajemy całości do całości, a ułamki do ułamk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5"/>
              <p:cNvSpPr txBox="1"/>
              <p:nvPr/>
            </p:nvSpPr>
            <p:spPr>
              <a:xfrm>
                <a:off x="1332000" y="4724280"/>
                <a:ext cx="33843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rc 152"/>
          <p:cNvSpPr/>
          <p:nvPr/>
        </p:nvSpPr>
        <p:spPr>
          <a:xfrm>
            <a:off x="1403280" y="4221000"/>
            <a:ext cx="863640" cy="38124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rc 151"/>
          <p:cNvSpPr/>
          <p:nvPr/>
        </p:nvSpPr>
        <p:spPr>
          <a:xfrm>
            <a:off x="1835280" y="4292640"/>
            <a:ext cx="792000" cy="380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śli dwa ułamki, które chcemy  dodać   mają różne mianowniki to należy najpierw sprowadzić je do wspólnego mianownika, następnie dodać liczniki. Dąży się do tego aby wspólny mianownik był możliwie najmniejszy. 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Sprowadzanie do wspólnego mianownika - przykład"/>
          <p:cNvPicPr/>
          <p:nvPr/>
        </p:nvPicPr>
        <p:blipFill>
          <a:blip r:embed="rId1"/>
          <a:stretch/>
        </p:blipFill>
        <p:spPr>
          <a:xfrm>
            <a:off x="2916360" y="4221000"/>
            <a:ext cx="4032000" cy="17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Dodawanie i odejmowanie u&amp;lstrok;amków o ró&amp;zdot;nych mianownikach. Najpierw sprowadzamy u&amp;lstrok;amki do wspólnego mianownika, którym jest 6 (najmniejsza wspólna wielokrotno&amp;sacute;&amp;cacute; liczb 2 i 3)."/>
          <p:cNvPicPr/>
          <p:nvPr/>
        </p:nvPicPr>
        <p:blipFill>
          <a:blip r:embed="rId1"/>
          <a:stretch/>
        </p:blipFill>
        <p:spPr>
          <a:xfrm>
            <a:off x="1090440" y="1916280"/>
            <a:ext cx="8053560" cy="3209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7720" y="3457440"/>
            <a:ext cx="29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6912000" cy="271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dejmowani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odjąć należy odjąć liczniki tych ułamków                 a mianownik pozostawić bez zmian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384360" cy="127476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75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odjąć liczby mieszane, odejmujemy całości od całości, a ułamki od ułamkó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Odejmowanie u&amp;lstrok;amków zwyk&amp;lstrok;ych."/>
          <p:cNvPicPr/>
          <p:nvPr/>
        </p:nvPicPr>
        <p:blipFill>
          <a:blip r:embed="rId1"/>
          <a:stretch/>
        </p:blipFill>
        <p:spPr>
          <a:xfrm>
            <a:off x="1547640" y="3500280"/>
            <a:ext cx="6769440" cy="25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2:07Z</dcterms:created>
  <dc:creator>x</dc:creator>
  <dc:description/>
  <dc:language>en-US</dc:language>
  <cp:lastModifiedBy>x</cp:lastModifiedBy>
  <dcterms:modified xsi:type="dcterms:W3CDTF">2013-04-22T17:34:45Z</dcterms:modified>
  <cp:revision>47</cp:revision>
  <dc:subject/>
  <dc:title>Dodawanie i odejmowanie ułamków zwykłych</dc:title>
</cp:coreProperties>
</file>